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970-1A2D-450C-8C0E-8966F2DD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EB9-D319-47E7-8C91-2FC70A92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813AE1-9AF0-40A8-B126-219A3102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336437-37D6-44EE-AF3C-0B36D5EC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55EB7-9BF5-4B31-8E12-B1CC9E00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F642EB-98FB-4348-AF79-F1538113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0D4B88-8A41-48A9-AAD6-9CF48C6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51D3C7-03AA-4A5D-ABCF-00CF05BA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4EE746-7335-483F-8349-3766F081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B44BE9-4802-4816-A307-82FE18B0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E2C851-755B-4152-939E-66F27EBA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1B171E-F8E4-432C-A4BE-37A8F826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951-457C-4104-8D20-8967FD5F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C3DAC1-3324-40D4-91E5-2B92BB76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1B99AB-0A95-4BFB-88F9-D7FD1BD0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8C6802-E6D0-4577-8D82-8423BA0E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607E78-7CB7-4A1D-A90D-7C47C113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6E73E6-A61E-4F37-A162-6C87ECFB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3BDB28-BB62-4777-86B8-767DBFE6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23C744-D140-431A-9A70-9C18F5D2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566D75-EDEC-4E5F-814F-85D07829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6B2C69-AE31-404B-A926-698E6561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212F7B-A6C3-49B9-92FB-AFF5B1EA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77F-AF4B-4AB3-8993-BBF3370C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7090F4-0D12-4AE8-8310-CCCCBC86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8E0CA4-F3B7-416B-9EC7-89BDCE8F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7D245A-0A8E-4A8C-90D6-F3A0DB24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7F1D28-2A0B-4737-A833-9CD42C71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D7D92F-8CAD-4D4A-BA8E-B83EE3B6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40BD1E-6031-4B58-A2B4-ADCB8FE8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09A1C6-3AFB-4CA7-83FE-9BFBF85B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6478E1-5739-4DE7-9071-A872885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47AC10-69ED-415A-9E87-2A7709C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2C52E7-7706-4F57-91F3-7C9BC1BC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408156-7DE8-4A97-A130-71B596C7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6172AC-1ABE-4CF6-B132-66C94AD5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29385C-1377-48E2-8F28-0D4C5EB3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A54398-3557-4209-81CF-DA2B5204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7B2666-C1DB-4E83-BD3B-A8B87154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6D9921-094A-4B5E-ABB6-843C4FCA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867DB0-E0DF-4B59-AAFA-FFB5BB93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961855-6560-41BF-B26D-3A4A5A0A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F39FED-420B-4FDE-A9FB-C5607702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513E02-7B6F-44E5-AB58-4F255C6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A3797E-DBCA-4124-A564-B7888634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B553CF-3AF8-4D70-9259-C0A5677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C1654D-8D7E-48E3-B490-86706A35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088229-862E-45E6-B0F3-015CA01C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082FC6-C093-4D75-8D10-31895FCB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06B944-11AF-49E1-A1DA-E7C8E13E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D02F53-635C-43DF-8BB1-CB8576CA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6D0CE0-F6B3-43AC-A281-DC979B39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0F3A1A-CFC0-4162-ACEC-43ADB38A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279559-1318-4631-AA38-8ED37FFF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90078C-549C-4DAA-B065-1F1A87B0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CC1B9E-7101-438F-852A-86491521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705219-BAF5-48A0-A5F1-FEDCE19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6AD092-5620-4A8E-990E-EC2D7B7D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A80409-336D-4F5D-A6A8-0281EC67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FA2731-B7DC-4434-82D9-CA4816A0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03E367-DE37-47D4-8597-679158EC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D0F-3C1E-48A0-A2A9-5BB5EC72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B1048-1A69-4A8F-9698-F8C47783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1B23A-A4ED-400A-97AB-CF7121DB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76A33-7AA0-4A52-93AA-0E6CDF5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2EA55-12CA-4FD3-8BC2-3BDAD83B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F43BE-AD4B-4BD8-9393-B25458DD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6BD-AED9-4194-8F88-57684750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BF135-517F-45DC-8FED-D7DBA0DA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9925D-0952-4591-A48F-F2EF7269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F7A48-E276-4ED9-BCA7-F3F74A6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CC973-78E8-401F-83A9-2B3A73C8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62357-EEA8-4600-A66F-36383FBE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6AB24-E6D3-444B-8C9E-8C8F5CE6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D285C-C86A-4609-A82A-4E11F1FC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7F9A8-9C06-46FC-92BD-859DA3BF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41C1E-3045-4AB4-8541-F3C9385B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DE43E-2AA8-4394-B43F-1F201B3D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ABF-CE04-4ACD-9E64-75F4739E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1205C-6030-4E90-B5AE-5C0E0678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C243E-FFEB-4D69-BBB8-78FD2A76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A2E76-FBE0-45BD-8D76-C90F75B3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C9AFE-71D8-42EE-BBDA-A13E15C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0F8B4-9366-469B-B1AF-5CBE6CC6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09B0D-5CA2-409E-B2F1-E75E8C9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FFA54-05BB-400D-B794-6FF752A4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77920-DEDF-41FA-8C3C-5414F492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57557-6620-4BC5-92D9-150698B9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DB15B-F4B5-492D-A35E-98F8B70A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367-1909-4C6F-B4C3-33A2165A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E40E0-4749-4AA7-A064-66413AD6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B9A27-1B0E-4E81-86B4-865C96A9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83C91-11B8-435B-9113-0A880B0B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087BE-C258-47BD-842F-A293C147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A59DC-857D-46A6-8929-5B6D6DD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B0682-9396-47A2-B269-8B51A39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E9DDF-AB52-4628-9678-BFB747CA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BABD2-1B38-4CE9-8B4C-48845FF1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5A5AF6-4ED8-4CDB-984C-6CBED06A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87204-4C7F-4EAD-BF1E-6259CA15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A81-DAE6-4BA2-B1E0-1783CDD8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69B85-8211-4884-BFEC-519D75ED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4F7ED-949A-46A3-B603-8D0CF746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67892-85E5-4DE6-8E5B-3D047C74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73546-1436-41E5-BF62-F7DADE71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F8A5B-1044-4C50-ABD6-E792E959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FB150-3B85-4870-A1D5-EB912B12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E77FF-5F64-4E74-8123-98F0C9A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97E17-971F-4C77-B879-C9DE1221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8D250-CBCE-4185-B1A4-733D2E11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9CB15-CF0A-4337-9360-EB69FCA4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A0A-960A-4BD1-8B50-8E0D368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AAB57-FF81-411F-B711-599EBDBA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BEDB3-ABC3-4D06-A997-F9535E25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CBCDA-1F20-427C-A906-EAF5FED3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DA23B-787B-454A-9190-A18E887D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DAB67-3727-440E-A494-DB798293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D6F0D-C71C-4B8A-BB28-BE54403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A20FA-708F-4050-95D0-E2EDF787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F881A-773F-4B14-8F12-8849AD3F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0D7D2-B306-48F2-B3B5-DADA325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25BBE-5AA3-4A18-B1DE-86348A79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FBC-1FA8-45DE-AADF-4564A71E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8C2F3-63D5-4E30-A91E-A74B5012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2BEB8-D005-47CA-BF78-A08EF8F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15E390-AE9D-46C0-83B7-1113E3AA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8881B-6AB8-4C32-9677-B67109F1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B0651-7F7A-42D4-AA6E-4C6489EC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C5F563-6B09-408C-82ED-45833B09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BCCC2-62E6-4B9C-A5FD-71C4515B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2BA75-9BF7-472A-B417-C4D1805F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9EE95A-3AFD-4E46-9CDE-05C67AD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D0498-FB2A-4077-9ED5-E7803D69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D0B-36C5-4172-9CB8-844C8277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80EDE4-C936-4D93-AA61-FD9770F7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63F0B-8E46-4E17-A3CA-1AF5321F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625719-12B3-4D7C-B654-AC1CC454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C197AF-AB39-4970-B9FF-F5C9F81E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D7A588-F50E-4D42-98BC-447FFA5C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39162D-5D8F-4D02-9C65-7F362A77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9EB1A4-7F71-432C-AED7-7676CB63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7B8B8-41AF-4D27-93EE-C237C75F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1C140-6D16-42D7-877C-48608F00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838D4E-4EC5-44AB-A576-3DB99A19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3C70-03B1-4D4A-9A2F-FF7DE6D0D1E7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E4CF-C480-46EC-941C-545DC4493F8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7AA2-2F82-4053-8080-BCEC7D24E78E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DB1D-42C6-436C-A296-4EF80B598DF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A52C-561B-47DA-82F8-02E680823967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A3B9-1727-4EDE-92BA-E316824E661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C65E-D3D5-4402-A85E-9767353DA7F8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2C6C-CFA9-4B12-B0FD-DCE936C56FD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2870-BE58-4933-96AF-08346D466EBF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2D98-AF92-46D3-ABE3-53FBD939F58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DF25-51C7-4270-A428-B6D6F59CE77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296-CF96-4540-8008-B92F88033AA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8F3E-6516-4E7A-9899-A18481EFEEE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895B-DB3A-43CE-883C-5C3E4824CC89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5165-ABC7-4E04-B19C-C702FE11FE4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E812-B5BB-4A81-ABC7-000BB5E16748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ABCC-4100-4AF2-8C55-60E55DD3CEF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105D-A9C4-4D4E-8D74-D9FA710EBC0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2AC7-5C2F-4E22-AD0F-1AF4F7D709B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ED27-D8F2-46DB-9A5E-4FAC06FBBF39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D795-7161-43D1-A948-748AEB45590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9995-BE5D-4217-974B-9E6EB2EEFF1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5B9C-D2AC-4E37-8DE6-A0BB8539B5D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A8A-430E-4B73-941C-3D12CF3A299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91A0-39F2-478E-84FA-B7BFCBB16E9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2"/>
          <a:stretch/>
        </p:blipFill>
        <p:spPr>
          <a:xfrm>
            <a:off x="493560" y="2487600"/>
            <a:ext cx="81568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088640" y="1981080"/>
            <a:ext cx="7272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at is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people willing to move to colonies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Native Americans adversely affected by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Hernán Corté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8640" y="129528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1 – part of Spanish troops who conquered Cub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9 – set sail for Mexico with 11 ships, 550 men, and 16 hors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ttacked upon arrival, but quickly killed nativ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guilar and Doña Marina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translato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ains allies as he marches towards Aztec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48" name="Picture 3" descr="cortes.jpg"/>
          <p:cNvPicPr/>
          <p:nvPr/>
        </p:nvPicPr>
        <p:blipFill>
          <a:blip r:embed="rId2"/>
          <a:stretch/>
        </p:blipFill>
        <p:spPr>
          <a:xfrm>
            <a:off x="6705720" y="3429000"/>
            <a:ext cx="2227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in vs. Aztec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88640" y="1371240"/>
            <a:ext cx="7272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(Aztec emperor) attempted peace offering with Cortés, but it was rejected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s attempt to ambush Spanish on the way, but are defeated easily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November 8, 1519 – Spanish troops walk peacefully into city of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taken captive by Cortés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 priests rebelled and drove the Spanish out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mallpox wins the war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ay 1521 – Cortés takes over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New Spain’s Societ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Encomienda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stem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en put in charge of entire villages and get paid a portion of productio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ociety based on class</a:t>
            </a: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 (peninsulares, criollos, and mestizos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ots of abuse of Native Americans under Spanish rul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53" name="Picture 3" descr="encomienda.jpg"/>
          <p:cNvPicPr/>
          <p:nvPr/>
        </p:nvPicPr>
        <p:blipFill>
          <a:blip r:embed="rId2"/>
          <a:stretch/>
        </p:blipFill>
        <p:spPr>
          <a:xfrm>
            <a:off x="274320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French Empir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iginally sent people looking for Northwest Pass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amuel de Champlai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1608 – founded Quebec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Very involved in fur trad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ess harsh to Native America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rench huguenots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religious refuge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nt all the way down to Louisian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colonies.jpg"/>
          <p:cNvPicPr/>
          <p:nvPr/>
        </p:nvPicPr>
        <p:blipFill>
          <a:blip r:embed="rId2"/>
          <a:stretch/>
        </p:blipFill>
        <p:spPr>
          <a:xfrm>
            <a:off x="1905120" y="304920"/>
            <a:ext cx="59436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   </a:t>
            </a: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How might your lives be different today if Europeans had not colonized America, but rather it had been people from Africa, the Middle East, or Asia?</a:t>
            </a:r>
            <a:endParaRPr b="0" lang="en-US" sz="3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29:11Z</dcterms:created>
  <dc:creator>Moffa, David</dc:creator>
  <dc:description/>
  <dc:language>en-US</dc:language>
  <cp:lastModifiedBy>Moffa, David</cp:lastModifiedBy>
  <dcterms:modified xsi:type="dcterms:W3CDTF">2010-10-28T14:03:37Z</dcterms:modified>
  <cp:revision>20</cp:revision>
  <dc:subject/>
  <dc:title>Spain and France Build Empires in America</dc:title>
</cp:coreProperties>
</file>