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00FF-182D-4FE9-855D-9E50AA81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AB76-33C9-42ED-8DB5-CAEE3B62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A773D4-4E19-4E47-9A39-F0C8A65A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6F9D11-9CAD-4C4E-ADAB-DF2CBB30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5ADC78-9223-43E7-A45C-7C89DEC8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D987C2-8314-42C6-A43F-0E6363D1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0943F4-925E-4F09-8C06-FE558F39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F1A33E-4475-4881-B238-D324301C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0BDB37-D44B-47C9-AF7E-7403B700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23DD71-2361-41ED-8123-5A76CCDA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E45BFE-946B-4A8B-A87F-40560D0E2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D06345-3C12-4E45-AF72-47E893CC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CCFB-F4FF-4CA4-85D0-F5D9A4BB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20A19B-40C5-48A1-B865-DB378B50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9FDF17-22E3-45D0-BB7A-648D918F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9EE53D-B649-4B00-9B9C-476B8E27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354E2C-7FDA-4920-99BF-8101D69E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3A3B97-355A-4CA7-B556-EEB98EE8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CA5A2B-385C-4887-9ABA-1ADB4372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3C7676-DAA6-4506-92FB-A74986C7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DB0364-49FE-4687-B9D3-9CC2EE9A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D20FA3-9748-473F-AED9-DF7FD45D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322F5F-35E6-4F92-B23A-DA9439080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A945-E2A3-4D1E-9D08-118DE9AB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08290F-17BE-4051-8FCC-3A4A9295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4095B3-0606-4B2D-BECF-7E58239F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69D934-4A93-4126-AF6F-DC6B3DD5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03D9DA-4692-493A-85D3-AAD0328B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1111A5-A5A1-4792-9447-DB4F4E3F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19FF02-A85D-47C0-84E5-B887DB35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A274A9-FB32-4AD7-87C6-2015F16B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9B6352-AA43-4950-AC85-3805F2FC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5C0273-C394-4997-BF3F-E3015C83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56CD31-A46D-4281-9B79-BFC0EAE6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F86690-D041-424A-A251-DB943861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D857EE-1855-46F9-9DBE-7BA81E90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0F7628-4CA6-47A4-9C6D-3CFFA36D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66272C-04A0-4893-B802-72BA28AA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AB4772-A594-43EE-867B-7C562C89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1859AD-605C-4766-BA9A-38E73F5F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785C9A-D783-4FD6-8440-2A529059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1C2354-7695-4B91-932D-6A9F7DD5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604802-E8DD-478A-9270-FB0E8D41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38DDD7-F561-4924-BAD6-561FF54A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E61E74-B28A-475A-94D4-CCA8F5EF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2F166E-07FC-4257-9888-9BB03737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96CE11-EAC9-4321-9627-24CFC482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01D8B0-D302-4CFE-92F6-D3EE43DA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CD9094-4844-4C09-9429-45F04DE5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111AEA-5751-45AE-B846-AFE6E350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AEC69E-627E-4913-A1D7-49DE6307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8A35CA-DB3F-4DB3-B86C-36E7F355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B4F602-89D2-4661-9F05-AEB11CCC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3A9D92-8DAB-4A63-95F6-DC7355A5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AA33B9-C68E-4692-9A40-241F8823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807D8D-8905-43E7-9DF6-AAC61AFA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620DB8-C614-4E77-94D8-03FB56E5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82D305-4E06-4D30-B937-75B3783B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CA9127-3C92-4B1E-B0E7-8DBE9625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CA8F8B-16B9-4B58-BCF0-349DCCD3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9C6382-AD0D-498D-8CAA-877C6F85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7E00-9506-4169-AA1B-65EEF592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9F5F53-2247-40F5-9560-1A1D4B0A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82125-A7BB-4641-89DA-27A6571E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6E25A2-6F65-4E2C-8982-CD13DCE9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71114A-28F2-4B11-A27C-EBA3561B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2B52FC-38B4-4566-A105-A8223FD3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358F-7A06-43B6-BD99-D6ADB1AF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FA296D-C35E-4C4D-A50B-F05C1589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BFFA1-012F-4BC4-AB4F-B44A8D79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3985F-3A3B-4466-A13E-4D1CBAF4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2BBC01-8A70-4778-922B-93AB0435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41099D-1E15-4C39-B45B-B5FCCBB1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DC10F-E84B-4AE2-8B36-E6E28749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DA336-C6B2-41B0-AA27-9C61BB3C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5326B6-FD71-449A-AB66-C1634B2F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B78A1A-49CC-4C1A-ADEC-6D451AC3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5AB51B-5CEB-46F9-B650-67A3EFDB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6CF0-A8C2-4583-B168-C9FA9B8A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3D8AE4-D669-4FC9-9FAB-D500862E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823658-2E70-4DFD-8B75-AC97EF47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F1812F-5668-4FEA-BFA2-F22D63CA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65714E-758B-42BB-8D34-36603810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1DB9E0-FF8C-4A6C-B9F2-BB59021E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A36D0D-03D9-461E-BBB6-9CF9E9C8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B3502F-FDAD-4785-B0EF-1FE38023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73CDE5-EC31-48AC-BA91-091DFB6F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3670CC-39E5-4EDB-84C9-388F5733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A078F4-4FCA-4374-B85E-453ABD0D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1431-D369-4012-AE68-E285BB1A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2F6135-38D3-4FAF-B4A4-F86BC7DC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58D4FC-F8D4-4205-B192-CED81846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AA9CE6-B12A-4790-8660-EAF4E266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DA7C80-A9D7-4E54-BE59-22F7DFFF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580081-34E1-4D65-ABE3-ABF41AEC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00F4FD-CB8C-4A4B-AF59-F4D05924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985DE5-B160-4C8C-87D9-7B78A9EC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556C24-3EED-4141-A973-0E0C124B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FEB291-D10D-444C-950B-AC501EFC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C3515D-88E7-442C-9A1C-BAE7B6D2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0716-F85C-4B3D-919E-AB899CE9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58F384-18A6-401A-8112-7EC2926A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92BF1D-AEDE-44B7-9ED2-6D9DF46A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011977-D98D-4EB4-AFFE-3CF1CE7E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06B9B4-A1C7-474A-AF37-7A37DF28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A70BAC-6E9F-47E1-AD40-A70AC8E0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773078-F1E5-4A4A-B38D-F64DE67D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3C7C3C-69D9-4E21-8C77-214D3F5C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ADDDA8-46CD-499F-A81D-D162FF26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176813-5C14-467C-B9FD-56538ACB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2E6669-5BB8-4EC8-A76C-8B1810AB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3B9E-29FF-47B3-A7B1-AB5CEAF6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94F020-53B6-4BBA-96C5-65BA1F72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74641A-9326-446F-B97C-14540190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6ACE6B-6B3C-4341-8090-6ED79FB2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A08990-04BE-462F-A685-7F133562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BF95EE-EF90-4126-BF0B-B4CB8F79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BAF9B7-B4E2-4118-AE29-9214B796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894A83-F4D4-4DED-8434-98294D3F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53B8E1-9DA6-49D2-8708-59E4F403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7E823B-A9D1-4650-9F94-B11C9A66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DE21DC-F118-493A-96A5-A1DFCB13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EF24-3A5C-4055-9A5D-E5D10D00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D85760-24FF-4E5D-8203-BF7E1A2D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807C7A-91E2-4363-9735-E8B5E963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D08084-FAA3-4512-81ED-F70ED38E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879530-17E9-4591-B9F2-70B4ABD6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0DE75D-9DCF-4346-83B7-270EAB3D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013A99-D4B1-4823-B932-6FE56436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F1D316-DC02-45A2-836F-5AB10AEB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448196-A6A6-49FD-A335-29A61A8E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82A6A6-20F1-4AE1-B1CF-F5F1294B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6B150A-0462-4FE7-B0C6-A8100E64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7FFC-5C42-4740-800B-4E0125CB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088640" y="274320"/>
            <a:ext cx="727236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69A154-482D-4F92-B5D7-3B352310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CDB658-5BD8-4FCC-B462-834E39CC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C08C35-8B00-42AA-B4B4-3512FD1C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0B3D1B-7847-4A76-A337-6189811E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1088640" y="4060440"/>
            <a:ext cx="72723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1C0852-AE6D-46D2-BCAD-4C7E5427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15360" y="180180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08864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815360" y="4060440"/>
            <a:ext cx="35488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5E870A-A02E-43EE-9919-E4542AF0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54744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06600" y="180180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10886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54744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06600" y="4060440"/>
            <a:ext cx="23414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53C67E-B4B4-4259-9451-0E735496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12684F-EEA8-4E92-8572-D9A1E9E7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32EBC5-682A-4EB0-916F-965E129E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B4ED70-B7EE-49FC-9A06-7A4F77CF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0F88-D46B-42D1-BEF1-E235B16D778E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1AD6-0F8D-4B91-B383-A0EEBF28F69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7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E091-B441-4FE2-96A5-D4EAD1028AFB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8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9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766A-8792-456A-86A7-0BEBFF8AAE15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0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B912-D046-47B4-BCAD-88EEC482FEE9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1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2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EF51-EEBD-43B7-A5A9-F338B4237BA5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3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EF52-DEE5-42B4-8A73-F8B4ACC103A0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4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5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4796-63AD-479A-B2EF-565D7B3F2C02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6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FB43-77B8-4C99-AA36-44D2C7DE26B3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7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8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3D57-0B32-4710-AA98-6921C30F4F4E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ver-TextureForeGround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987880" y="6221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4E63-5848-4940-9759-9E43E128F10D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295280" y="6221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283A-EA21-4C6B-8B9D-1F6EB4037B13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8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E3E6-1034-4917-8453-1702ADE60859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9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F3C7-D019-42D8-8F63-2CC0EFF9A026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0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1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DA73-1A79-4776-AB8E-C13FBCC2C0EE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2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49B0-4348-42D8-8A18-7D8228F28614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3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4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BD1B-B6FC-418F-BF20-D8E52973B52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5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D83A-257F-44EF-B0B6-1AD76EB3D341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6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7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8164-5DDF-4D35-8EE2-AD380D9672E0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8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B10D-AA3B-4594-B68B-57C5C0AEA9F9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9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0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465E-19FB-4293-AA05-0862B12ECB2D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1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152D-D8B8-40D3-981A-164E5DD1A08B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2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3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67CD-F6C0-48BC-9A08-CACA52468EA1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6" descr="Interior-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8604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1430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1425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4"/>
          </p:nvPr>
        </p:nvSpPr>
        <p:spPr>
          <a:xfrm>
            <a:off x="6302520" y="6356520"/>
            <a:ext cx="2428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DDCC-96DA-4EF7-81D2-92730FE174D6}" type="datetime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5"/>
          </p:nvPr>
        </p:nvSpPr>
        <p:spPr>
          <a:xfrm>
            <a:off x="68580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6"/>
          </p:nvPr>
        </p:nvSpPr>
        <p:spPr>
          <a:xfrm>
            <a:off x="44193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5FE8-E58A-4341-8A58-783592C51446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Title 1" descr=""/>
          <p:cNvPicPr/>
          <p:nvPr/>
        </p:nvPicPr>
        <p:blipFill>
          <a:blip r:embed="rId2"/>
          <a:stretch/>
        </p:blipFill>
        <p:spPr>
          <a:xfrm>
            <a:off x="493560" y="2487600"/>
            <a:ext cx="815688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1088640" y="1981080"/>
            <a:ext cx="72723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hat is Colonization?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hy were people willing to move to colonies?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hy were Native Americans adversely affected by colonization?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Hernán Cortés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088640" y="129528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1511 – part of Spanish troops who conquered Cuba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1519 – set sail for Mexico with 11 ships, 550 men, and 16 horse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Attacked upon arrival, but quickly killed native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Aguilar and Doña Marina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 translator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Gains allies as he marches towards Aztec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pic>
        <p:nvPicPr>
          <p:cNvPr id="548" name="Picture 3" descr="cortes.jpg"/>
          <p:cNvPicPr/>
          <p:nvPr/>
        </p:nvPicPr>
        <p:blipFill>
          <a:blip r:embed="rId2"/>
          <a:stretch/>
        </p:blipFill>
        <p:spPr>
          <a:xfrm>
            <a:off x="6705720" y="3429000"/>
            <a:ext cx="22273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Spain vs. Aztecs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088640" y="1371240"/>
            <a:ext cx="72723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Montezuma (Aztec emperor) attempted peace offering with Cortés, but it was rejected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Aztecs attempt to ambush Spanish on the way, but are defeated easily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November 8, 1519 – Spanish troops walk peacefully into city of Tenochtitlán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Montezuma taken captive by Cortés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Aztec priests rebelled and drove the Spanish out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Smallpox wins the war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May 1521 – Cortés takes over Tenochtitlán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New Spain’s Society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andara"/>
              </a:rPr>
              <a:t>Encomienda 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ystem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spcBef>
                <a:spcPts val="6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Men put in charge of entire villages and get paid a portion of production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ociety based on class</a:t>
            </a:r>
            <a:r>
              <a:rPr b="0" i="1" lang="en-US" sz="2400" spc="-1" strike="noStrike">
                <a:solidFill>
                  <a:srgbClr val="404040"/>
                </a:solidFill>
                <a:latin typeface="Candara"/>
              </a:rPr>
              <a:t> (peninsulares, criollos, and mestizos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Lots of abuse of Native Americans under Spanish rul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pic>
        <p:nvPicPr>
          <p:cNvPr id="553" name="Picture 3" descr="encomienda.jpg"/>
          <p:cNvPicPr/>
          <p:nvPr/>
        </p:nvPicPr>
        <p:blipFill>
          <a:blip r:embed="rId2"/>
          <a:stretch/>
        </p:blipFill>
        <p:spPr>
          <a:xfrm>
            <a:off x="2743200" y="4610160"/>
            <a:ext cx="41911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88640" y="274320"/>
            <a:ext cx="7272360" cy="13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French Empire</a:t>
            </a:r>
            <a:endParaRPr b="1" lang="en-US" sz="48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Originally sent people looking for Northwest Passag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amuel de Champlain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ndara"/>
              </a:rPr>
              <a:t>1608 – founded Quebec</a:t>
            </a:r>
            <a:endParaRPr b="0" lang="en-US" sz="22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Very involved in fur trade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Less harsh to Native American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rench huguenots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 religious refugees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Went all the way down to Louisiana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5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3" descr="colonies.jpg"/>
          <p:cNvPicPr/>
          <p:nvPr/>
        </p:nvPicPr>
        <p:blipFill>
          <a:blip r:embed="rId2"/>
          <a:stretch/>
        </p:blipFill>
        <p:spPr>
          <a:xfrm>
            <a:off x="1905120" y="304920"/>
            <a:ext cx="594360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1088640" y="1801800"/>
            <a:ext cx="7272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ndara"/>
              </a:rPr>
              <a:t>   </a:t>
            </a:r>
            <a:r>
              <a:rPr b="0" lang="en-US" sz="3200" spc="-1" strike="noStrike">
                <a:solidFill>
                  <a:srgbClr val="404040"/>
                </a:solidFill>
                <a:latin typeface="Candara"/>
              </a:rPr>
              <a:t>How might your lives be different today if Europeans had not colonized America, but rather it had been people from Africa, the Middle East, or Asia?</a:t>
            </a:r>
            <a:endParaRPr b="0" lang="en-US" sz="32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3:29:11Z</dcterms:created>
  <dc:creator>Moffa, David</dc:creator>
  <dc:description/>
  <dc:language>en-US</dc:language>
  <cp:lastModifiedBy>Moffa, David</cp:lastModifiedBy>
  <dcterms:modified xsi:type="dcterms:W3CDTF">2010-10-28T14:03:37Z</dcterms:modified>
  <cp:revision>20</cp:revision>
  <dc:subject/>
  <dc:title>Spain and France Build Empires in America</dc:title>
</cp:coreProperties>
</file>